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65C-CB4D-4A28-8801-FB7E0954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C05-45F3-4E9C-990A-5CE9B3C8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613-C384-4A8C-868D-E3468F3A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3E8-DF02-475D-A48D-2C8A503D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F49-CA1D-4FD6-973F-B37BFA70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759-911C-4007-8830-68D27BFB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261-3BF8-4860-80AD-BA587746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C4A-37E9-4AA9-AFB4-CFB6E474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790-7B04-4D27-93E3-6F753678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963-2570-49C2-8D38-8B8317A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60C-8AB9-4B50-816F-8D05D8B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FB4-8BFB-475D-B444-74A6EA7E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70E-A1C3-4B7D-A22D-A7C2E5EF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Jake Latini, Luke Marcheski and Isabelle Pil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soon became the Union of Soviet Scolastic Republic 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-1922: 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4: Lenin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39: November-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45-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5-May: Berlin surrenders to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: The USA bombed Hiroshima and Nagaski which ended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3-Stalin dies and is taken over by Nikita Khrushc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7-The Soviet Union launches “Sputnik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2-198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-The Cuban Missile Cri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-Khrushchev was replaced by Leonid Brezhne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-The Soviet Union backs North Vietnam against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-The USSR loses to the US in the hockey Olympics 4 to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5-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USSR launches the MIR spa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USSR withdraws from Afghanistan     the Berlin wall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-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-Boris Yelstin i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Russia becomes an independen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Yelsti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 </dc:creator>
  <dc:description/>
  <dc:language>en-US</dc:language>
  <cp:lastModifiedBy> </cp:lastModifiedBy>
  <dcterms:modified xsi:type="dcterms:W3CDTF">2010-12-15T15:56:33Z</dcterms:modified>
  <cp:revision>3</cp:revision>
  <dc:subject/>
  <dc:title>Russian History 1918-2000</dc:title>
</cp:coreProperties>
</file>